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2BB25-BE91-4234-B58D-13DF6CFAB86E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32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2F61B-8F7B-4A3F-960B-36474D795F20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B1B94B-2EF3-45D1-B9CC-DA8F2BAA44E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2B9389-EFBD-418F-B812-DC6C9FC92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FC0887-3DA0-4435-97A8-CF70D0CF5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FDD91D-B845-488A-A8F7-79E6B89B247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83A61D-8F38-49DB-993E-897B4ADCE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99429C-DDF9-4F28-8A42-0FEC919EC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97075C-9133-4B21-BFBF-941BE4C46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9C68CC-8CA0-4F28-8E22-6BF5BBDA4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BBEF5A-F268-4F67-8BAE-8D81A7305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F412A9-6312-46B5-9933-A88B6672B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17CA0B-3D2E-46BE-9F4D-813B0A6DE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F6A2EF-EB6A-4FAC-9D5D-DA2C4F528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5AD93-199B-442E-85D1-BAA481D49DEE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9280" y="2060280"/>
            <a:ext cx="5472360" cy="23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三十二章 </a:t>
            </a:r>
            <a:br>
              <a:rPr sz="4000"/>
            </a:b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抗病毒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98160"/>
            <a:ext cx="6326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矩形 5"/>
          <p:cNvSpPr/>
          <p:nvPr/>
        </p:nvSpPr>
        <p:spPr>
          <a:xfrm>
            <a:off x="838080" y="1773360"/>
            <a:ext cx="70470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5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了解：常用抗病毒药的临床应用及药疗监护的主要内容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835280" y="415800"/>
            <a:ext cx="6556320" cy="52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一）阿昔洛韦（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aciclovir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1383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又称无环鸟苷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广谱抗病毒药。在感染细胞内竞争性抑制病毒的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DNA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多聚酶，从而阻断病毒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DNA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的合成，对正常细胞的作用较小。对Ⅰ型和Ⅱ型单纯疱疹病毒作用最强，对水痘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-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带状疱疹病毒及乙型肝炎病毒也有抑制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防治单纯疱疹病毒Ⅰ、Ⅱ型引起的多种感染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皮肤、粘膜疱疹、生殖器疱疹、单纯疱疹脑炎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防治带状疱疹病毒感染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免疫调节剂（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α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-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干扰素）联用治疗乙型肝炎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71680" y="23652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一）阿昔洛韦（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aciclovir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572760" y="1341000"/>
            <a:ext cx="8343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体内过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服吸收差。血浆蛋白结合率很低，易透过生物膜，脑脊液中药物浓度可达血药浓度的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/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服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00mg/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，每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小时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。静脉滴注，一次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mg/k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8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小时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，疗程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7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天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一）阿昔洛韦（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aciclovir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26520" y="112500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不良反应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静滴给药：可引起一过性肌酐水平升高，与有肾毒性的药物合用，可增加肾毒性。可出现静脉炎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口服给药：不良反应少，除偶有头晕、呕吐、头痛外，几乎无毒性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霜剂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有一过性烧灼感或疼痛，小部分有红疹、轻度干燥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眼膏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小部分患者用后有一过性轻度疼痛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禁忌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对本品过敏者禁用。肾功能减退者、孕妇及哺乳期妇女慎用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3" marL="1371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一）阿昔洛韦（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aciclovir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68360" y="1196640"/>
            <a:ext cx="8083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914400" indent="-45720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静滴给药前应查尿常规及肾功能，充分稀释后给药，用药期间嘱患者大量饮水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3000ml/d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，以加速药物排出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更换注射部位，以减少血栓性静脉炎的发生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霜剂有一过性烧灼感或疼痛，小部分有皮疹、轻度干燥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少数患者用眼膏后有一过性轻度疼痛，但不必终止治疗，愈后无明显后遗症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4000" y="-30600"/>
            <a:ext cx="7476840" cy="2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23653"/>
                </a:solidFill>
                <a:latin typeface="宋体"/>
                <a:ea typeface="宋体"/>
              </a:rPr>
              <a:t>(</a:t>
            </a:r>
            <a:r>
              <a:rPr b="1" lang="zh-CN" sz="2000" spc="-1" strike="noStrike">
                <a:solidFill>
                  <a:srgbClr val="023653"/>
                </a:solidFill>
                <a:latin typeface="宋体"/>
                <a:ea typeface="宋体"/>
              </a:rPr>
              <a:t>二</a:t>
            </a:r>
            <a:r>
              <a:rPr b="1" lang="en-US" sz="2000" spc="-1" strike="noStrike">
                <a:solidFill>
                  <a:srgbClr val="023653"/>
                </a:solidFill>
                <a:latin typeface="宋体"/>
                <a:ea typeface="宋体"/>
              </a:rPr>
              <a:t>)</a:t>
            </a:r>
            <a:r>
              <a:rPr b="1" lang="zh-CN" sz="2000" spc="-1" strike="noStrike">
                <a:solidFill>
                  <a:srgbClr val="023653"/>
                </a:solidFill>
                <a:latin typeface="宋体"/>
                <a:ea typeface="宋体"/>
              </a:rPr>
              <a:t>其他抗病毒药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19080" y="287280"/>
          <a:ext cx="9124920" cy="6570720"/>
        </p:xfrm>
        <a:graphic>
          <a:graphicData uri="http://schemas.openxmlformats.org/drawingml/2006/table">
            <a:tbl>
              <a:tblPr/>
              <a:tblGrid>
                <a:gridCol w="2112840"/>
                <a:gridCol w="3641760"/>
                <a:gridCol w="3370320"/>
              </a:tblGrid>
              <a:tr h="4111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药  名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特  点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不良反应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10303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利巴韦林（</a:t>
                      </a:r>
                      <a:r>
                        <a:rPr b="1" lang="en-US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ribavirin</a:t>
                      </a:r>
                      <a:r>
                        <a:rPr b="1" lang="zh-CN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）又称三唑核苷、病毒唑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广谱抗病毒药，既抗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DNA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病毒，也抗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RNA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病毒。临床用于防治流感、腺病毒肺炎、甲型肝炎、疱疹及麻疹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.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胃肠道反应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.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中枢神经系统反应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3.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溶血性贫血和骨髓功能抑制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6811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金刚烷胺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amantadine</a:t>
                      </a:r>
                      <a:r>
                        <a:rPr b="1" lang="zh-CN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））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阻止病毒进入宿主细胞并抑制其复制。用于甲型流感的预防和早期治疗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.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胃肠道反应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.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中枢神经系统反应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3.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致畸胎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6793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齐多夫定（</a:t>
                      </a:r>
                      <a:r>
                        <a:rPr b="1" lang="en-US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zidovudine</a:t>
                      </a:r>
                      <a:r>
                        <a:rPr b="1" lang="zh-CN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，叠氮胸苷）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是一种逆转录酶抑制剂，艾滋病治疗首选药物，可改善临床症状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不良反应有头痛、肝毒性，停药可恢复，骨髓移植：白细胞减少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7653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膦甲酸（</a:t>
                      </a:r>
                      <a:r>
                        <a:rPr b="1" lang="en-US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foscarnet</a:t>
                      </a:r>
                      <a:r>
                        <a:rPr b="1" lang="zh-CN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）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选择性作用于病毒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DNA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多聚酶而抑制病毒生长。用于治疗巨细胞病毒性视网膜炎、肺炎等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不良反应：可产生严重的肾毒性，其它包括电解质紊乱、癫痫等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7444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奥司他韦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oseltamivir</a:t>
                      </a:r>
                      <a:r>
                        <a:rPr b="1" lang="zh-CN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）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 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抑制新形成的病毒颗粒从被染细胞释放而阻止病毒在体内的传播。主要用于流行性感冒的治疗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不良反应主要是消化道症状，还可出现咳嗽、眩晕、头痛、失眠等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11984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聚肌胞苷酸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(polyinosinic  polycytidylic acid</a:t>
                      </a:r>
                      <a:r>
                        <a:rPr b="1" lang="zh-CN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）又称聚肌胞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 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广谱抗病毒药，同时具有增强免疫和抗肿瘤作用。用于慢性乙型肝炎、流行性出血热、流行性乙型脑炎、病毒性角膜炎、带状疱疹、各种疣类和呼吸道感染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不良反应：由于本品为大分子物质，少数患者可出现严重过敏反应，对本品过敏者慎用。本药有致畸作用，孕妇禁用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10605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干扰素（</a:t>
                      </a:r>
                      <a:r>
                        <a:rPr b="1" lang="en-US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interferon</a:t>
                      </a:r>
                      <a:r>
                        <a:rPr b="1" lang="zh-CN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，</a:t>
                      </a:r>
                      <a:r>
                        <a:rPr b="1" lang="en-US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IFN</a:t>
                      </a:r>
                      <a:r>
                        <a:rPr b="1" lang="zh-CN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）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具有广谱抗病毒活性，亦具有免疫调节及抗肿瘤作用，主要用于治疗各型慢性病毒性乙型肝炎、带状疱疹，还用于恶性肿瘤的治疗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不良反应有流感样综合征，白细胞减少，血小板减少及转氨酶升高等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</a:tbl>
          </a:graphicData>
        </a:graphic>
      </p:graphicFrame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4T07:41:55Z</dcterms:modified>
  <cp:revision>110</cp:revision>
  <dc:subject/>
  <dc:title>内科护理学</dc:title>
</cp:coreProperties>
</file>